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5B4-E8E0-44CE-B71B-17462DBE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87C-6753-4EC6-A5FC-51F6C89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EF5-2D5F-4B0F-951B-44FFBD04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3DD-FF12-42E3-A543-CEB54199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A25-66F9-4C6B-8084-C0B0D6E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884-472D-49B5-91B5-789146B2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FB0-0546-4097-980D-5225CF8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61C-2C01-4EB3-A3D7-06646820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551-59C8-4FC9-B2F0-D44AEE5C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308-75C2-435E-BA6E-084A8953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4A3-77CA-475B-916C-9936F9C8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DBD-3694-49E9-B99F-76800C4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99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85D4-A45F-4F41-A622-863EA1D5F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996"/>
                </a:solidFill>
                <a:latin typeface="Garamond"/>
              </a:rPr>
              <a:t>Presentation Title</a:t>
            </a:r>
            <a:endParaRPr b="1" lang="en-US" sz="60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99484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996"/>
              </a:solidFill>
              <a:latin typeface="Helvetica LT Std"/>
            </a:endParaRPr>
          </a:p>
        </p:txBody>
      </p:sp>
      <p:pic>
        <p:nvPicPr>
          <p:cNvPr id="43" name="Picture 5" descr="Smeal_2color_horiz.png"/>
          <p:cNvPicPr/>
          <p:nvPr/>
        </p:nvPicPr>
        <p:blipFill>
          <a:blip r:embed="rId2"/>
          <a:stretch/>
        </p:blipFill>
        <p:spPr>
          <a:xfrm>
            <a:off x="2209680" y="5438880"/>
            <a:ext cx="4953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96"/>
                </a:solidFill>
                <a:latin typeface="Garamond"/>
              </a:rPr>
              <a:t>Slide Title</a:t>
            </a:r>
            <a:endParaRPr b="1" lang="en-US" sz="32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685800"/>
            <a:ext cx="9144000" cy="54864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meal_2color_horiz.png"/>
          <p:cNvPicPr/>
          <p:nvPr/>
        </p:nvPicPr>
        <p:blipFill>
          <a:blip r:embed="rId2"/>
          <a:stretch/>
        </p:blipFill>
        <p:spPr>
          <a:xfrm>
            <a:off x="5753160" y="6261120"/>
            <a:ext cx="32623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996"/>
                </a:solidFill>
                <a:latin typeface="Garamond"/>
              </a:rPr>
              <a:t>Slide Title</a:t>
            </a:r>
            <a:endParaRPr b="1" lang="en-US" sz="3200" spc="-1" strike="noStrike">
              <a:solidFill>
                <a:srgbClr val="004996"/>
              </a:solidFill>
              <a:latin typeface="Garamond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6:08:54Z</dcterms:created>
  <dc:creator>jon</dc:creator>
  <dc:description/>
  <dc:language>en-US</dc:language>
  <cp:lastModifiedBy>ijn</cp:lastModifiedBy>
  <dcterms:modified xsi:type="dcterms:W3CDTF">2010-08-19T17:03:45Z</dcterms:modified>
  <cp:revision>24</cp:revision>
  <dc:subject/>
  <dc:title>Slide 1</dc:title>
</cp:coreProperties>
</file>