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4D7-4E37-435E-A99C-9760F6CA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BF9-7BCF-4C28-A200-128EFA73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723-3DCA-47A7-BEE7-058EDC69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A18-538E-47C3-B828-94A02F3A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FBF-9378-42AE-8DEF-AAE2CCFB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BA1-B61F-4DBC-BEB0-F3CD238C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6C1-08F7-4CEE-8F83-235AC2C6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9E9-3FF2-4797-B4F3-173D2429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D8F-C76B-48D4-B49B-E4F86316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3B0-950F-4DE3-BD52-E923CD7C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25C-8947-4663-B882-1035F9FD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483-4D16-44CD-9C8C-85D3510E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99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2C69-6486-4A7B-8253-A980692F3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996"/>
                </a:solidFill>
                <a:latin typeface="Garamond"/>
              </a:rPr>
              <a:t>Presentation Title</a:t>
            </a:r>
            <a:endParaRPr b="1" lang="en-US" sz="60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69884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4996"/>
              </a:solidFill>
              <a:latin typeface="Helvetica LT Std"/>
            </a:endParaRPr>
          </a:p>
        </p:txBody>
      </p:sp>
      <p:pic>
        <p:nvPicPr>
          <p:cNvPr id="43" name="Picture 5" descr="Smeal_2color_horiz.png"/>
          <p:cNvPicPr/>
          <p:nvPr/>
        </p:nvPicPr>
        <p:blipFill>
          <a:blip r:embed="rId2"/>
          <a:stretch/>
        </p:blipFill>
        <p:spPr>
          <a:xfrm>
            <a:off x="2209680" y="5438880"/>
            <a:ext cx="49532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996"/>
                </a:solidFill>
                <a:latin typeface="Garamond"/>
              </a:rPr>
              <a:t>Slide Title</a:t>
            </a:r>
            <a:endParaRPr b="1" lang="en-US" sz="3200" spc="-1" strike="noStrike">
              <a:solidFill>
                <a:srgbClr val="004996"/>
              </a:solidFill>
              <a:latin typeface="Garamond"/>
            </a:endParaRPr>
          </a:p>
        </p:txBody>
      </p:sp>
      <p:pic>
        <p:nvPicPr>
          <p:cNvPr id="46" name="Picture 4" descr="Smeal_2color_horiz.png"/>
          <p:cNvPicPr/>
          <p:nvPr/>
        </p:nvPicPr>
        <p:blipFill>
          <a:blip r:embed="rId2"/>
          <a:stretch/>
        </p:blipFill>
        <p:spPr>
          <a:xfrm>
            <a:off x="5753160" y="6261120"/>
            <a:ext cx="32623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22:32:58Z</dcterms:created>
  <dc:creator>jon</dc:creator>
  <dc:description/>
  <dc:language>en-US</dc:language>
  <cp:lastModifiedBy>ijn</cp:lastModifiedBy>
  <dcterms:modified xsi:type="dcterms:W3CDTF">2010-08-19T17:02:26Z</dcterms:modified>
  <cp:revision>25</cp:revision>
  <dc:subject/>
  <dc:title>Slide 1</dc:title>
</cp:coreProperties>
</file>