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7EF-B2A2-4573-9D5A-DE345C4B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14A-89ED-419D-8599-8B95C4CB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80D-70A2-4652-B336-B88B8DF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B5B-CE85-4C57-B4B7-7625F3FD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E7E-EB81-4173-9EB5-E14B94D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CD5-6E05-45C2-8080-AF53739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125-E98D-49E0-8A45-7F99D06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F83-3729-4E29-947F-4FD0082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AF0-047E-4E8A-B36F-0B1B1913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16F-A1FA-4CF6-98B3-B1442FAD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2FB-3012-4136-AEBF-CD4925C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3D7-3889-42D5-B67F-C293DE8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99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8D1-365A-4BE0-A2BF-B9037E22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996"/>
                </a:solidFill>
                <a:latin typeface="Garamond"/>
              </a:rPr>
              <a:t>Presentation Title</a:t>
            </a:r>
            <a:endParaRPr b="1" lang="en-US" sz="60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99484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996"/>
              </a:solidFill>
              <a:latin typeface="Helvetica LT Std"/>
            </a:endParaRPr>
          </a:p>
        </p:txBody>
      </p:sp>
      <p:pic>
        <p:nvPicPr>
          <p:cNvPr id="43" name="Picture 5" descr="Smeal_2color_horiz.png"/>
          <p:cNvPicPr/>
          <p:nvPr/>
        </p:nvPicPr>
        <p:blipFill>
          <a:blip r:embed="rId2"/>
          <a:stretch/>
        </p:blipFill>
        <p:spPr>
          <a:xfrm>
            <a:off x="2209680" y="5438880"/>
            <a:ext cx="4953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meal_2color_horiz.png"/>
          <p:cNvPicPr/>
          <p:nvPr/>
        </p:nvPicPr>
        <p:blipFill>
          <a:blip r:embed="rId2"/>
          <a:stretch/>
        </p:blipFill>
        <p:spPr>
          <a:xfrm>
            <a:off x="5753160" y="6261120"/>
            <a:ext cx="3262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08:54Z</dcterms:created>
  <dc:creator>jon</dc:creator>
  <dc:description/>
  <dc:language>en-US</dc:language>
  <cp:lastModifiedBy>ijn</cp:lastModifiedBy>
  <dcterms:modified xsi:type="dcterms:W3CDTF">2010-08-19T17:03:45Z</dcterms:modified>
  <cp:revision>24</cp:revision>
  <dc:subject/>
  <dc:title>Slide 1</dc:title>
</cp:coreProperties>
</file>